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DA88-82BA-450E-A999-AD235B705AE6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AB0F-39E1-4220-AFC5-5C924F7F1845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87EE-F562-4FA4-8F20-8808A9FE832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Lynn Yarmey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Rectangle 1"/>
          <p:cNvSpPr/>
          <p:nvPr/>
        </p:nvSpPr>
        <p:spPr>
          <a:xfrm>
            <a:off x="571680" y="1447920"/>
            <a:ext cx="1186164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Writing and Sharing Readable Code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 Management Pla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28564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hy is writing and sharing readable code important?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ips for creating readable cod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is code sharing important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285640"/>
            <a:ext cx="118616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producibility of scien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meone else can build on your work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et credit in NSF Data Management Plans for work you already do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“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Much of the debate about code transparency involves the philosophy of science, error validation and research ethics, but our contention is more practical: that the cause of reproducibility is best furthered by focusing on the dissection and understanding of code, a sentiment already appreciated by the growing open-source movement.”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(Ince, et al., 2012)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39760" indent="-239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Sharing your co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714680" y="2285640"/>
            <a:ext cx="1057896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Not at all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With your advisor and lab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By email if someone ask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On your websit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hrough an Institutional or Domain Repository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s a publication 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ee Open Research Computation Journal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hrough a code bank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Ex. Geophysics Source Code Archive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0" name="TextBox 3"/>
          <p:cNvSpPr/>
          <p:nvPr/>
        </p:nvSpPr>
        <p:spPr>
          <a:xfrm>
            <a:off x="520920" y="220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elvetica Neue Light"/>
              </a:rPr>
              <a:t>Lower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429120" y="862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Helvetica Neue Light"/>
              </a:rPr>
              <a:t>Higher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TextBox 5"/>
          <p:cNvSpPr/>
          <p:nvPr/>
        </p:nvSpPr>
        <p:spPr>
          <a:xfrm rot="16200000">
            <a:off x="-1282680" y="54399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 Light"/>
              </a:rPr>
              <a:t>Funder Happines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Left-Right Arrow 6"/>
          <p:cNvSpPr/>
          <p:nvPr/>
        </p:nvSpPr>
        <p:spPr>
          <a:xfrm rot="5400000">
            <a:off x="-1575000" y="5638680"/>
            <a:ext cx="5410080" cy="228600"/>
          </a:xfrm>
          <a:prstGeom prst="leftRightArrow">
            <a:avLst>
              <a:gd name="adj1" fmla="val 50000"/>
              <a:gd name="adj2" fmla="val 49962"/>
            </a:avLst>
          </a:prstGeom>
          <a:gradFill rotWithShape="0">
            <a:gsLst>
              <a:gs pos="0">
                <a:srgbClr val="008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Good coding practi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58720" y="3200400"/>
            <a:ext cx="118620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6060"/>
                </a:solidFill>
                <a:latin typeface="Helvetica Neue"/>
              </a:rPr>
              <a:t>Sharing doesn’t help if no one can read or understand your code</a:t>
            </a:r>
            <a:endParaRPr b="0" lang="en-US" sz="4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Tips for Readable Co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1320" y="2324160"/>
            <a:ext cx="118616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Use logical, clear names for variables and subroutine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dd explicit comments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Be platform-independent where possible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Document the connections to data sets (which code is applied to what data?)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Use a consistent versioning method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eader Information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71320" y="2324160"/>
            <a:ext cx="118616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In the header, include: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Author nam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Original creation dat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atest revision date with code version number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oftware version number 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Short description of the cod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6060"/>
                </a:solidFill>
                <a:latin typeface="Helvetica Neue"/>
              </a:rPr>
              <a:t>Long description of the code</a:t>
            </a: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4900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spcAft>
                <a:spcPts val="42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atlab Programming Style Guidelin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42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erl Best Practi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42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R Coding Convention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spcAft>
                <a:spcPts val="4201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nd many others…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71320" y="234900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258480" indent="-258480">
              <a:spcBef>
                <a:spcPts val="601"/>
              </a:spcBef>
              <a:spcAft>
                <a:spcPts val="1199"/>
              </a:spcAft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Anel, Juan A.  (2011). Importance of Reviewing the Code.  </a:t>
            </a:r>
            <a:r>
              <a:rPr b="0" i="1" lang="en-US" sz="3600" spc="-1" strike="noStrike">
                <a:solidFill>
                  <a:srgbClr val="606060"/>
                </a:solidFill>
                <a:latin typeface="Helvetica Neue"/>
              </a:rPr>
              <a:t>Communications of the ACM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. Volume 5 (May 1).  Retrieved from: http://cacm.acm.org/magazines/2011/5/107698-the-importance-of-reviewing-the-code/fulltext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-2584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Darrel C. Ince, Darrel C., Hatton, Leslie, &amp; John Graham-Cumming. (2012). </a:t>
            </a:r>
            <a:r>
              <a:rPr b="1" lang="en-US" sz="36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The case for open computer programs. </a:t>
            </a:r>
            <a:r>
              <a:rPr b="0" i="1" lang="en-US" sz="3600" spc="-1" strike="noStrike">
                <a:solidFill>
                  <a:srgbClr val="606060"/>
                </a:solidFill>
                <a:latin typeface="Helvetica Neue"/>
              </a:rPr>
              <a:t>Nature. </a:t>
            </a:r>
            <a:r>
              <a:rPr b="0" lang="en-US" sz="3600" spc="-1" strike="noStrike">
                <a:solidFill>
                  <a:srgbClr val="606060"/>
                </a:solidFill>
                <a:latin typeface="Helvetica Neue"/>
              </a:rPr>
              <a:t>482, 485–488 (23 February). doi:10.1038/nature10836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  <a:p>
            <a:pPr marL="2584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0:32:07Z</dcterms:created>
  <dc:creator/>
  <dc:description/>
  <cp:keywords/>
  <dc:language>en-US</dc:language>
  <cp:lastModifiedBy>Lynn Yarmey</cp:lastModifiedBy>
  <dcterms:modified xsi:type="dcterms:W3CDTF">2012-02-28T01:02:00Z</dcterms:modified>
  <cp:revision>48</cp:revision>
  <dc:subject/>
  <dc:title>ESIP Federation 101</dc:title>
</cp:coreProperties>
</file>